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1F9-C842-4467-83CF-1E3CE838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9A9-9CBB-47A5-9B29-A7C0B93B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6BF-DD71-4549-A1B8-521D8387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3E9-8CB2-43C0-918B-C9AC4B04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8CD-04A7-4ACE-9851-F1BDFFE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6FB-4B22-432A-A509-00ADAD1A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3C9-78EA-4F85-8ECD-E06589B9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E07-98B9-4D62-9C4D-08386A0E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C0D-72DD-439A-8988-584A6EDF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78D-7180-47FA-A6FF-7956039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082-821C-40F6-BBE0-CFF935A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E6B-4228-45C8-A867-E69A7DD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CD11-28A2-426B-9CF6-7126A2E90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undamentals Level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slide will change in 15 sec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each exercise at your pace until the slide changes (30 Seconds e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 for 60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cover dir="lu"/>
    <p:sndAc>
      <p:stSnd>
        <p:snd r:embed="rId1" name="las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 for 60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cover dir="lu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over dir="lu"/>
    <p:sndAc>
      <p:stSnd>
        <p:snd r:embed="rId1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 for 60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cover dir="lu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20:11:32Z</dcterms:created>
  <dc:creator>jcps</dc:creator>
  <dc:description/>
  <dc:language>en-US</dc:language>
  <cp:lastModifiedBy>Devin Clifford</cp:lastModifiedBy>
  <dcterms:modified xsi:type="dcterms:W3CDTF">2010-06-09T17:54:07Z</dcterms:modified>
  <cp:revision>11</cp:revision>
  <dc:subject/>
  <dc:title>Slide 1</dc:title>
</cp:coreProperties>
</file>